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910-7D00-4BA8-9EBA-C858E7AC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FC5-6D05-4240-B8F1-27C422A1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AA1-D800-4C9D-8329-42EA875B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6D9-DC75-4EB5-BFDF-34B119F5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632-5E7B-4EE2-A916-E4819441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8FE-DB47-446E-95D2-F69E738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B20-F127-44BE-9EF5-23EFC15F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9DC-02E4-4BF5-96F7-425A19E2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8FA-D34C-4B9A-9A75-0F9EEBDE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BF8-B7AC-4B36-B767-B8A35FD0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FED-6E75-4BC9-984D-BB06093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8C5-EE80-491F-B613-B7E720E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B2DD-7940-4DBF-92C5-5B1A0382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ía MEX-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nejo de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g. Atzimba Ló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¿Quién usa EM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miembros de la Región de Asia-Pacífico de la Red I-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ed Mex-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ed US-L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Organización de Estaciones de Campo Biológicas, en Estados Unidos (OBF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Ecological Society of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Proyectos de Investigación de Cyberinfrastructura apoyados por la NS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nowledge Network for Biocomplexity (KN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cience Environment for Ecological Knowledge (S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740720" y="5533920"/>
            <a:ext cx="1403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adatos </a:t>
            </a:r>
            <a:r>
              <a:rPr b="0" lang="es-MX" sz="3600" spc="-1" strike="noStrike">
                <a:solidFill>
                  <a:srgbClr val="333399"/>
                </a:solidFill>
                <a:latin typeface="Arial"/>
              </a:rPr>
              <a:t>en la Red Mex-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81920" y="5761080"/>
            <a:ext cx="1162080" cy="1096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907920"/>
          <a:ext cx="7570800" cy="5835600"/>
        </p:xfrm>
        <a:graphic>
          <a:graphicData uri="http://schemas.openxmlformats.org/drawingml/2006/table">
            <a:tbl>
              <a:tblPr/>
              <a:tblGrid>
                <a:gridCol w="2428560"/>
                <a:gridCol w="5142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a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ít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cología del paisaje y dinámicas de cambio en el uso del suelo, la deforestación y la fragmentación en la Costa de Jalisco, Méx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alabras 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forestación, Fragmentación, Ecología del Paisaje, Cambios de Uso del suelo, Dinámica de cambio, Costa de Jalis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ariable Monitore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bertura de la vegetación, uso del suelo, fragmentación, efecto de borde, índices descriptores del paisa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utor de los datos y Cont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Álvaro Miranda amiranda@dmstecnologias.com.m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bertura taxonó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pos de Vege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cripción del si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sta de Jalisco, Reserva de la Biosfera Chamela-Cuix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texto del Monito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icié este proyecto como parte de mi investigación doctoral para evaluar los patrones de deforestación y fragmentación, así como los cambios de uso del suelo, con el objetivo de explorar las consecuencias de estos procesos sobre diferentes componentes de la biodiversidad, especialmente la fauna de mamíferos. A raíz de ello y como parte de otros proyectos de investigación he continuado y establecido un monitoreo permanente de estos procesos a través del tiempo y a diferentes escal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todología de Muest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 través de diferentes plataformas de percepción remota (imágenes de satélite, fotografía aérea), junto con validaciones de campo, y a través del soporte de análisis que permiten los sistemas de información geográfica, con clasificaciones de tipo supervisada y no supervis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stru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nsores remotos, computadoras, g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mporalidad del Muest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ariable. Se cuenta con información para diferentes secuencias en el tiempo a partir de 1973 y hasta el momen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bertura espacial del monito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sta de Jalisco, hasta 15000 km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ño de in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iscontinuidad en el registro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73, 1980, 1986, 1992, 2000. Se continúan las secuencias en función de las preguntas específicas en cada proyec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324000" y="1125360"/>
            <a:ext cx="1994040" cy="653040"/>
            <a:chOff x="324000" y="1125360"/>
            <a:chExt cx="1994040" cy="653040"/>
          </a:xfrm>
        </p:grpSpPr>
        <p:sp>
          <p:nvSpPr>
            <p:cNvPr id="122" name=""/>
            <p:cNvSpPr/>
            <p:nvPr/>
          </p:nvSpPr>
          <p:spPr>
            <a:xfrm>
              <a:off x="828360" y="1197000"/>
              <a:ext cx="148968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99cc00"/>
                  </a:solidFill>
                  <a:latin typeface="Arial"/>
                </a:rPr>
                <a:t>Camp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000" y="1125360"/>
              <a:ext cx="502920" cy="648000"/>
            </a:xfrm>
            <a:custGeom>
              <a:avLst/>
              <a:gdLst/>
              <a:ahLst/>
              <a:rect l="l" t="t" r="r" b="b"/>
              <a:pathLst>
                <a:path w="317" h="454">
                  <a:moveTo>
                    <a:pt x="0" y="0"/>
                  </a:moveTo>
                  <a:lnTo>
                    <a:pt x="317" y="454"/>
                  </a:lnTo>
                  <a:lnTo>
                    <a:pt x="317" y="91"/>
                  </a:lnTo>
                  <a:lnTo>
                    <a:pt x="31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627280" y="1125360"/>
            <a:ext cx="1635120" cy="654120"/>
            <a:chOff x="2627280" y="1125360"/>
            <a:chExt cx="1635120" cy="654120"/>
          </a:xfrm>
        </p:grpSpPr>
        <p:sp>
          <p:nvSpPr>
            <p:cNvPr id="125" name=""/>
            <p:cNvSpPr/>
            <p:nvPr/>
          </p:nvSpPr>
          <p:spPr>
            <a:xfrm>
              <a:off x="3133800" y="1198080"/>
              <a:ext cx="112860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99cc00"/>
                  </a:solidFill>
                  <a:latin typeface="Arial"/>
                </a:rPr>
                <a:t>Valo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7280" y="1125360"/>
              <a:ext cx="503280" cy="647640"/>
            </a:xfrm>
            <a:custGeom>
              <a:avLst/>
              <a:gdLst/>
              <a:ahLst/>
              <a:rect l="l" t="t" r="r" b="b"/>
              <a:pathLst>
                <a:path w="317" h="454">
                  <a:moveTo>
                    <a:pt x="0" y="0"/>
                  </a:moveTo>
                  <a:lnTo>
                    <a:pt x="317" y="454"/>
                  </a:lnTo>
                  <a:lnTo>
                    <a:pt x="317" y="91"/>
                  </a:lnTo>
                  <a:lnTo>
                    <a:pt x="31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63324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276640"/>
            <a:ext cx="6113520" cy="3448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cc00"/>
                </a:solidFill>
                <a:latin typeface="Arial"/>
              </a:rPr>
              <a:t>Inicié este proyecto como parte de mi investigación doctoral para evaluar los patrones de deforestación y fragmentación, así como los cambios de uso del suelo, con el objetivo de explorar las consecuencias de estos procesos sobre diferentes componentes de la biodiversidad, especialmente la fauna de mamíferos. A raíz de ello y como parte de otros proyectos de investigación he continuado y establecido un monitoreo permanente de estos procesos a través del tiempo y a diferentes esca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4000" y="3429000"/>
            <a:ext cx="4880880" cy="653040"/>
            <a:chOff x="324000" y="3429000"/>
            <a:chExt cx="4880880" cy="653040"/>
          </a:xfrm>
        </p:grpSpPr>
        <p:sp>
          <p:nvSpPr>
            <p:cNvPr id="130" name=""/>
            <p:cNvSpPr/>
            <p:nvPr/>
          </p:nvSpPr>
          <p:spPr>
            <a:xfrm>
              <a:off x="826920" y="3500640"/>
              <a:ext cx="437796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99cc00"/>
                  </a:solidFill>
                  <a:latin typeface="Arial"/>
                </a:rPr>
                <a:t>Contexto del monitor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3429000"/>
              <a:ext cx="502920" cy="648000"/>
            </a:xfrm>
            <a:custGeom>
              <a:avLst/>
              <a:gdLst/>
              <a:ahLst/>
              <a:rect l="l" t="t" r="r" b="b"/>
              <a:pathLst>
                <a:path w="317" h="454">
                  <a:moveTo>
                    <a:pt x="0" y="0"/>
                  </a:moveTo>
                  <a:lnTo>
                    <a:pt x="317" y="454"/>
                  </a:lnTo>
                  <a:lnTo>
                    <a:pt x="317" y="91"/>
                  </a:lnTo>
                  <a:lnTo>
                    <a:pt x="31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mente se cuentan con 57 registros de Metadatos en línea en la página de la Red Mex-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vertidor automático a formato E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macenados en la base de datos relacional MySQL y en archivos E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740720" y="5533920"/>
            <a:ext cx="1403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Instituciones participantes en la Red Mex-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3160" y="1484280"/>
          <a:ext cx="4470120" cy="5127480"/>
        </p:xfrm>
        <a:graphic>
          <a:graphicData uri="http://schemas.openxmlformats.org/drawingml/2006/table">
            <a:tbl>
              <a:tblPr/>
              <a:tblGrid>
                <a:gridCol w="3036600"/>
                <a:gridCol w="14335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it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ex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 de Investigación Científica de Yucatá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CONAC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 de Investigación en Alimentación y Desarrol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CONAC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 de Investigaciones Biológicas del Noroes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CONAC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ICE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CONAC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l. Forest Resources, University of Washingt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UCA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LEGIO DE POSTGRADU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lorado State Univers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UCA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sultores en Ecosistemas, S.C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cuela Nacional de Ciencias Biológ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 del IP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lorida International Univers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UCA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  Nal de Inv Forestaes, agricolas y Pecuarias (INIF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 (Gobierno SAGARP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ituto de Ecología A.C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CONAC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ituto Politécnico N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PIC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CONAC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716360" y="1484280"/>
          <a:ext cx="4103640" cy="5218200"/>
        </p:xfrm>
        <a:graphic>
          <a:graphicData uri="http://schemas.openxmlformats.org/drawingml/2006/table">
            <a:tbl>
              <a:tblPr/>
              <a:tblGrid>
                <a:gridCol w="2789280"/>
                <a:gridCol w="13143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it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ex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ouisiana State Univer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 UCA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outh Florida Water management 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obierno de EU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Autónoma de Aguascali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Autónoma de Baja California S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Autónoma de Campech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Autónoma de Nuevo Le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Autónoma del Estado de 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Autónoma del Estado de Morel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Autónoma Metropolit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de Coli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de Guadalaja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del 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Juárez del Estado de Duran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versidad Nacional Autónoma de 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643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740720" y="5533920"/>
            <a:ext cx="1403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6280" y="4297320"/>
            <a:ext cx="70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La Red Mexicana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Ecológica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9640" y="568008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www.mexlter.org.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5877000"/>
            <a:ext cx="704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2771640" y="374760"/>
            <a:ext cx="3930840" cy="3690720"/>
            <a:chOff x="2771640" y="374760"/>
            <a:chExt cx="3930840" cy="3690720"/>
          </a:xfrm>
        </p:grpSpPr>
        <p:sp>
          <p:nvSpPr>
            <p:cNvPr id="47" name=""/>
            <p:cNvSpPr/>
            <p:nvPr/>
          </p:nvSpPr>
          <p:spPr>
            <a:xfrm>
              <a:off x="2771640" y="374760"/>
              <a:ext cx="3930840" cy="36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196800" y="602640"/>
              <a:ext cx="3134160" cy="3196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87280" y="5824440"/>
            <a:ext cx="863640" cy="69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877080" y="587700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101080" y="5877000"/>
            <a:ext cx="647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¿Qué son los metada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28316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ción general del ¿cómo?, ¿cuándo? y ¿quién?, ¿dónde?... sobre los datos generados en los sitios de la 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07240" y="5502240"/>
            <a:ext cx="1436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1800" y="228600"/>
            <a:ext cx="61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Deterioro de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75160" y="2901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78280" y="593712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ahoma"/>
              </a:rPr>
              <a:t>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rot="16200000">
            <a:off x="-499680" y="2856240"/>
            <a:ext cx="278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ahoma"/>
              </a:rPr>
              <a:t>Contenido de la información y el meta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3747960"/>
            <a:ext cx="416160" cy="2049480"/>
          </a:xfrm>
          <a:custGeom>
            <a:avLst/>
            <a:gdLst/>
            <a:ahLst/>
            <a:rect l="l" t="t" r="r" b="b"/>
            <a:pathLst>
              <a:path w="262" h="1291">
                <a:moveTo>
                  <a:pt x="262" y="1291"/>
                </a:moveTo>
                <a:lnTo>
                  <a:pt x="174" y="1176"/>
                </a:lnTo>
                <a:lnTo>
                  <a:pt x="117" y="1062"/>
                </a:lnTo>
                <a:lnTo>
                  <a:pt x="78" y="906"/>
                </a:lnTo>
                <a:lnTo>
                  <a:pt x="33" y="651"/>
                </a:lnTo>
                <a:lnTo>
                  <a:pt x="12" y="32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cc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722600" y="3849480"/>
            <a:ext cx="2253960" cy="2168280"/>
            <a:chOff x="1722600" y="3849480"/>
            <a:chExt cx="2253960" cy="2168280"/>
          </a:xfrm>
        </p:grpSpPr>
        <p:sp>
          <p:nvSpPr>
            <p:cNvPr id="63" name=""/>
            <p:cNvSpPr/>
            <p:nvPr/>
          </p:nvSpPr>
          <p:spPr>
            <a:xfrm>
              <a:off x="1722600" y="4094280"/>
              <a:ext cx="21272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99"/>
                  </a:solidFill>
                  <a:latin typeface="Tahoma"/>
                </a:rPr>
                <a:t>En ocasiones la documentación se puede perder accidentalm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352680" y="3849480"/>
              <a:ext cx="623880" cy="231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44360" y="2386080"/>
            <a:ext cx="6299640" cy="796680"/>
            <a:chOff x="2844360" y="2386080"/>
            <a:chExt cx="6299640" cy="796680"/>
          </a:xfrm>
        </p:grpSpPr>
        <p:sp>
          <p:nvSpPr>
            <p:cNvPr id="66" name=""/>
            <p:cNvSpPr/>
            <p:nvPr/>
          </p:nvSpPr>
          <p:spPr>
            <a:xfrm>
              <a:off x="3870360" y="2386080"/>
              <a:ext cx="527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99"/>
                  </a:solidFill>
                  <a:latin typeface="Tahoma"/>
                </a:rPr>
                <a:t>Detalles generales acerca de  los datos se pierden con el tie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44360" y="2717640"/>
              <a:ext cx="973080" cy="4651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95440" y="2852640"/>
            <a:ext cx="2471760" cy="1067040"/>
          </a:xfrm>
          <a:custGeom>
            <a:avLst/>
            <a:gdLst/>
            <a:ahLst/>
            <a:rect l="l" t="t" r="r" b="b"/>
            <a:pathLst>
              <a:path w="1557" h="672">
                <a:moveTo>
                  <a:pt x="0" y="0"/>
                </a:moveTo>
                <a:cubicBezTo>
                  <a:pt x="92" y="76"/>
                  <a:pt x="289" y="342"/>
                  <a:pt x="548" y="454"/>
                </a:cubicBezTo>
                <a:cubicBezTo>
                  <a:pt x="807" y="566"/>
                  <a:pt x="1347" y="627"/>
                  <a:pt x="1557" y="67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192560" y="2343240"/>
            <a:ext cx="5140080" cy="1506600"/>
            <a:chOff x="4192560" y="2343240"/>
            <a:chExt cx="5140080" cy="1506600"/>
          </a:xfrm>
        </p:grpSpPr>
        <p:sp>
          <p:nvSpPr>
            <p:cNvPr id="70" name=""/>
            <p:cNvSpPr/>
            <p:nvPr/>
          </p:nvSpPr>
          <p:spPr>
            <a:xfrm>
              <a:off x="4192560" y="2343240"/>
              <a:ext cx="5140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99"/>
                  </a:solidFill>
                  <a:latin typeface="Tahoma"/>
                </a:rPr>
                <a:t>Cuando el investigador se retira o cambia de ámbito de trabajo, el acceso a su “almacén mental” se torna difícil o poco proba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804920" y="3414600"/>
              <a:ext cx="477720" cy="435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848120" y="3908520"/>
            <a:ext cx="1044720" cy="1566720"/>
          </a:xfrm>
          <a:custGeom>
            <a:avLst/>
            <a:gdLst/>
            <a:ahLst/>
            <a:rect l="l" t="t" r="r" b="b"/>
            <a:pathLst>
              <a:path w="658" h="987">
                <a:moveTo>
                  <a:pt x="0" y="0"/>
                </a:moveTo>
                <a:cubicBezTo>
                  <a:pt x="38" y="125"/>
                  <a:pt x="118" y="585"/>
                  <a:pt x="228" y="749"/>
                </a:cubicBezTo>
                <a:cubicBezTo>
                  <a:pt x="338" y="913"/>
                  <a:pt x="569" y="938"/>
                  <a:pt x="658" y="98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65680" y="3629160"/>
            <a:ext cx="3289320" cy="1716120"/>
            <a:chOff x="5665680" y="3629160"/>
            <a:chExt cx="3289320" cy="1716120"/>
          </a:xfrm>
        </p:grpSpPr>
        <p:sp>
          <p:nvSpPr>
            <p:cNvPr id="74" name=""/>
            <p:cNvSpPr/>
            <p:nvPr/>
          </p:nvSpPr>
          <p:spPr>
            <a:xfrm>
              <a:off x="5665680" y="3629160"/>
              <a:ext cx="328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99"/>
                  </a:solidFill>
                  <a:latin typeface="Tahoma"/>
                </a:rPr>
                <a:t>Muerte del investigador… pérdida y daño de los registros reman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994360" y="4896000"/>
              <a:ext cx="277920" cy="449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881680" y="5472000"/>
            <a:ext cx="1190520" cy="266760"/>
          </a:xfrm>
          <a:custGeom>
            <a:avLst/>
            <a:gdLst/>
            <a:ahLst/>
            <a:rect l="l" t="t" r="r" b="b"/>
            <a:pathLst>
              <a:path w="750" h="168">
                <a:moveTo>
                  <a:pt x="0" y="0"/>
                </a:moveTo>
                <a:cubicBezTo>
                  <a:pt x="27" y="21"/>
                  <a:pt x="37" y="102"/>
                  <a:pt x="162" y="130"/>
                </a:cubicBezTo>
                <a:cubicBezTo>
                  <a:pt x="287" y="158"/>
                  <a:pt x="628" y="160"/>
                  <a:pt x="750" y="168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85880" y="5781240"/>
            <a:ext cx="5605560" cy="9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00240" y="1149480"/>
            <a:ext cx="3465000" cy="528480"/>
            <a:chOff x="2100240" y="1149480"/>
            <a:chExt cx="3465000" cy="528480"/>
          </a:xfrm>
        </p:grpSpPr>
        <p:sp>
          <p:nvSpPr>
            <p:cNvPr id="79" name=""/>
            <p:cNvSpPr/>
            <p:nvPr/>
          </p:nvSpPr>
          <p:spPr>
            <a:xfrm>
              <a:off x="2312280" y="1149480"/>
              <a:ext cx="325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99"/>
                  </a:solidFill>
                  <a:latin typeface="Tahoma"/>
                </a:rPr>
                <a:t>Se publica la informació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100240" y="1384200"/>
              <a:ext cx="324000" cy="2937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738440" y="1779480"/>
            <a:ext cx="352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63320" y="1504800"/>
            <a:ext cx="5891760" cy="1008720"/>
            <a:chOff x="2263320" y="1504800"/>
            <a:chExt cx="5891760" cy="1008720"/>
          </a:xfrm>
        </p:grpSpPr>
        <p:sp>
          <p:nvSpPr>
            <p:cNvPr id="83" name=""/>
            <p:cNvSpPr/>
            <p:nvPr/>
          </p:nvSpPr>
          <p:spPr>
            <a:xfrm>
              <a:off x="2908440" y="1504800"/>
              <a:ext cx="5246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99"/>
                  </a:solidFill>
                  <a:latin typeface="Tahoma"/>
                </a:rPr>
                <a:t>Los detalles específicos acerca de los elementos individuales o fechas de colecta se pierden rápidam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263320" y="2021040"/>
              <a:ext cx="4510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060640" y="1789200"/>
            <a:ext cx="339840" cy="1068480"/>
          </a:xfrm>
          <a:custGeom>
            <a:avLst/>
            <a:gdLst/>
            <a:ahLst/>
            <a:rect l="l" t="t" r="r" b="b"/>
            <a:pathLst>
              <a:path w="214" h="673">
                <a:moveTo>
                  <a:pt x="0" y="0"/>
                </a:moveTo>
                <a:cubicBezTo>
                  <a:pt x="10" y="64"/>
                  <a:pt x="22" y="270"/>
                  <a:pt x="58" y="382"/>
                </a:cubicBezTo>
                <a:cubicBezTo>
                  <a:pt x="94" y="494"/>
                  <a:pt x="181" y="612"/>
                  <a:pt x="214" y="673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692360" y="1628640"/>
            <a:ext cx="0" cy="41911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  <a:ea typeface="MS Mincho"/>
              </a:rPr>
              <a:t>¿Por qué son importantes los metadat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MS Mincho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6923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on  el primer punto de búsqueda o reunión de personas interesadas en el tema, para saber qué se está haciendo y/o qué se ha hecho en los sitios de la 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515772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08840" y="5692680"/>
            <a:ext cx="12351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  <a:ea typeface="MS Mincho"/>
              </a:rPr>
              <a:t>Valor de los metadatos en Ec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197000"/>
            <a:ext cx="724536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Extiende la utilidad d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Provee información para los catálogos de d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Promueve el compartir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Dirige colaboradores potenciales para investigación (i.e., promueve el descubrimiento de nuevos da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Mejora la manera de interpretar correctament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 la integración de los datos para hacer síntesis entre distintas cole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82040" y="5478480"/>
            <a:ext cx="14619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¿</a:t>
            </a: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Cómo se manejan en la Red Mex-LTE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Se tiene una aplicación (sito web) que permite, al público en general, realizar una consulta, ya sea por autor, título o palabra clave, sobre uno o todos los camp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ermite, a las personas autorizadas, el acceso a las bases de datos para realizar altas y/o modificaciones de los meta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08840" y="5692680"/>
            <a:ext cx="12351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¿Cómo se manejan en la Red IL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1090800" cy="1028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69228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3933720"/>
            <a:ext cx="3995640" cy="292428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1916280"/>
            <a:ext cx="226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Ecolog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(EM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2360" y="1484280"/>
            <a:ext cx="160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META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EN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MEX-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003280" y="3500280"/>
            <a:ext cx="100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2421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43640" y="4797360"/>
            <a:ext cx="104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¿</a:t>
            </a: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Por qué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Ecological Metadata Language (EML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otros estándares, pero no soportan el desarrollo de programas que permiten realizar operaciones sobre los meta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falta de la estructura requeri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falta de contenido para soportar accesos automáticos a formatos de datos comunes. (e.g. texto delimitado, texto formateado, bases de datos estructurada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08840" y="5692680"/>
            <a:ext cx="12351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6:35:10Z</dcterms:created>
  <dc:creator>CortecMexLTER</dc:creator>
  <dc:description/>
  <dc:language>en-US</dc:language>
  <cp:lastModifiedBy>CortecMexLTER</cp:lastModifiedBy>
  <dcterms:modified xsi:type="dcterms:W3CDTF">2006-10-18T18:09:37Z</dcterms:modified>
  <cp:revision>15</cp:revision>
  <dc:subject/>
  <dc:title>Diapositiva 1</dc:title>
</cp:coreProperties>
</file>